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jeop.wav" ContentType="audio/x-wav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ED43-2F5B-457E-818E-DE3FF72A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452-D281-4819-BC07-0AABF078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E94E-7620-4704-A90D-BD378969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F10-2C5C-40A3-BCC2-793E594C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2EE9D-6622-4C93-B8C8-9FD9A20F5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853F-CFC1-4BF5-B6EA-C50883C5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AE08-6715-4D54-977A-8B73077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AC3D-BD75-4319-B1EC-A987A6D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FFD2-409C-451F-88EB-0DDFB0A9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7A9B-180F-4712-9EF0-9FE4EED0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3F0F-05DC-4026-8554-743CF61B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3B7-8CAA-4EDE-954C-8E03B6E4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3BC1-AEFF-4F95-B691-9AB36A96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7869-F2C0-425E-83FF-7D2DC33D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8643-744D-4D43-A838-F2C126A7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A1F1-CA7D-4ABF-B15F-D6A7E2F9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DE75-F3A9-46E0-9E75-BDA962C3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A288-0567-4459-B275-006D9758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ABDB-86DE-4AEE-A31D-D8C515C4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63FB-6366-463A-8658-3D4F3356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AF8-FAA0-44D0-8045-0F999D34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7C2F-8C5A-4AB0-9B43-3313F0A3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2E6-E47D-47C7-9FC5-4AC4550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43B-755E-4A06-89B5-C8595D8B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9219-490D-428C-9150-FA9D05A7B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711E-3946-48C5-AFED-23735FD85D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6.xml"/><Relationship Id="rId8" Type="http://schemas.openxmlformats.org/officeDocument/2006/relationships/slide" Target="slide11.xml"/><Relationship Id="rId9" Type="http://schemas.openxmlformats.org/officeDocument/2006/relationships/slide" Target="slide31.xml"/><Relationship Id="rId10" Type="http://schemas.openxmlformats.org/officeDocument/2006/relationships/slide" Target="slide21.xml"/><Relationship Id="rId11" Type="http://schemas.openxmlformats.org/officeDocument/2006/relationships/slide" Target="slide41.xml"/><Relationship Id="rId12" Type="http://schemas.openxmlformats.org/officeDocument/2006/relationships/slide" Target="slide13.xml"/><Relationship Id="rId13" Type="http://schemas.openxmlformats.org/officeDocument/2006/relationships/slide" Target="slide23.xml"/><Relationship Id="rId14" Type="http://schemas.openxmlformats.org/officeDocument/2006/relationships/slide" Target="slide33.xml"/><Relationship Id="rId15" Type="http://schemas.openxmlformats.org/officeDocument/2006/relationships/slide" Target="slide23.xml"/><Relationship Id="rId16" Type="http://schemas.openxmlformats.org/officeDocument/2006/relationships/slide" Target="slide15.xml"/><Relationship Id="rId17" Type="http://schemas.openxmlformats.org/officeDocument/2006/relationships/slide" Target="slide25.xml"/><Relationship Id="rId18" Type="http://schemas.openxmlformats.org/officeDocument/2006/relationships/slide" Target="slide35.xml"/><Relationship Id="rId19" Type="http://schemas.openxmlformats.org/officeDocument/2006/relationships/slide" Target="slide44.xml"/><Relationship Id="rId20" Type="http://schemas.openxmlformats.org/officeDocument/2006/relationships/slide" Target="slide17.xml"/><Relationship Id="rId21" Type="http://schemas.openxmlformats.org/officeDocument/2006/relationships/slide" Target="slide27.xml"/><Relationship Id="rId22" Type="http://schemas.openxmlformats.org/officeDocument/2006/relationships/slide" Target="slide37.xml"/><Relationship Id="rId23" Type="http://schemas.openxmlformats.org/officeDocument/2006/relationships/slide" Target="slide46.xml"/><Relationship Id="rId24" Type="http://schemas.openxmlformats.org/officeDocument/2006/relationships/slide" Target="slide19.xml"/><Relationship Id="rId25" Type="http://schemas.openxmlformats.org/officeDocument/2006/relationships/slide" Target="slide29.xml"/><Relationship Id="rId26" Type="http://schemas.openxmlformats.org/officeDocument/2006/relationships/slide" Target="slide39.xml"/><Relationship Id="rId27" Type="http://schemas.openxmlformats.org/officeDocument/2006/relationships/slide" Target="slide48.xml"/><Relationship Id="rId28" Type="http://schemas.openxmlformats.org/officeDocument/2006/relationships/audio" Target="../media/jeop.wav"/><Relationship Id="rId2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Rockwell Extra Bold"/>
              </a:rPr>
              <a:t>Revolutionary War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Rockwell Extra Bold"/>
              </a:rPr>
              <a:t> Review Jeopardy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8782200" y="4351320"/>
          <a:ext cx="7743960" cy="464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782200" y="4351320"/>
                    <a:ext cx="774396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914400" y="1447920"/>
            <a:ext cx="138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Geograph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38080" y="16002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??????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Batt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14479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W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33920" y="14479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Peop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467480" cy="4119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7150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289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1752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90720" y="27352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2438280"/>
            <a:ext cx="548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uring this battle in New Jersey, Washington lead an attack on retreating British troop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143360" y="2209680"/>
            <a:ext cx="644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Battle Monmouth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97080" y="25909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2438280"/>
            <a:ext cx="64771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attle was considered a turning point in the war, because the colonists’ victory convince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rance to join the war eff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10160" y="2971800"/>
            <a:ext cx="587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Saratog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259092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this battle the British surrendered to the Colonial Army (with the help of the French), ending the Revolutionary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2061720" y="304812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Yorktow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" y="2743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93240" y="3168720"/>
            <a:ext cx="681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the Colonists lost this battle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ny of the British thought the wa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uld soon be ov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893240" y="316872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New Yor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19810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18288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 surprise attack on the Hessians on Christmas Day, this battle raised the hopes and morale of the Colonial Arm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" y="213372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752480" y="1143000"/>
            <a:ext cx="6166080" cy="54482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038480" y="3809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4320" y="3168720"/>
            <a:ext cx="57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the Battle of Trento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144440" y="2819520"/>
            <a:ext cx="2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2362320"/>
            <a:ext cx="6629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his extensive military training and ability to inspire the troops, the colonial general led the army throughout the entire w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889280" y="3168720"/>
            <a:ext cx="474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George Washingto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066680" y="1981080"/>
            <a:ext cx="723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n for his lavish lifestyle, this British general was defeated at the Battle of Saratoga, which proved to be a turning point in the W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was Gentleman Johnny Burgoy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1676520" y="213372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71600" y="220968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colonist wrote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The Crisis,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ich helped to inspire the colonial army to keep fighting, even if times were t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889280" y="3168720"/>
            <a:ext cx="55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Thomas Pai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066680" y="26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38080" y="2133720"/>
            <a:ext cx="7315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2133720"/>
            <a:ext cx="6019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British General surrendered at the Battle of Yorktown, which effectively ended the war and gave the colonists their freed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1440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6520" y="29718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was Cornwalli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447920" y="2336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23623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British general captured New Y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28800" y="2438280"/>
            <a:ext cx="582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Virginia and Pennsylvania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297800" y="2666880"/>
            <a:ext cx="486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was General Ho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066680" y="3044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22860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1600" y="2133720"/>
            <a:ext cx="693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document ended the Revolutionary War, giving the Colonists their freedom and removing Great Britain’s claim to much of its land in North Americ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28800" y="334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71600" y="2666880"/>
            <a:ext cx="58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the Treaty of Pari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14400" y="2666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used his own money to buy warm clothes for the soldiers at Valley For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905120" y="3349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0200" y="22096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was Lafayett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981080" y="2209680"/>
            <a:ext cx="4267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2865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57400" y="2286000"/>
            <a:ext cx="5715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colonial army spent a brutal winter camping in this Pennsylvania town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981080" y="30481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Valley For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09480" y="30178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2362320"/>
            <a:ext cx="5867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Prussia military leader came to Valley Forge and continually drilled the American soldi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76520" y="236232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05120" y="2666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o is Baron Von Steuben?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889280" y="2590920"/>
            <a:ext cx="62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05120" y="2209680"/>
            <a:ext cx="533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76520" y="2133720"/>
            <a:ext cx="647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fter 1776, George Washington changed his strategy and decided it would be best to fight this type of w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33920" y="2895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371600" y="1413000"/>
            <a:ext cx="6934320" cy="51782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9718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2438280"/>
            <a:ext cx="53316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2438280"/>
            <a:ext cx="533160" cy="1067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429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47920" y="2133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52480" y="32767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a defensive wa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11280" y="2819520"/>
            <a:ext cx="87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ell trained soldiers, powerful navy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od amount of supplie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2061720" y="2971800"/>
            <a:ext cx="51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dvantages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ritish arm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981080" y="2666880"/>
            <a:ext cx="609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inspiring and well trained military leader, secret aid from the Fre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981080" y="266688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 inspiring and well trained military leader, secret aid from the Fren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893600" y="3168720"/>
            <a:ext cx="52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dvantages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lonists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638680" y="35812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2133720"/>
            <a:ext cx="624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African Americans joined the Colonist’s Army with the hope that American Independence would end wha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133720" y="2743200"/>
            <a:ext cx="3994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ave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147680" y="2438280"/>
            <a:ext cx="7642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type of warfare helped the colonis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in significant victories in the Sou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14360" y="3124080"/>
            <a:ext cx="51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Guerrilla Warfa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51160" y="2209680"/>
            <a:ext cx="445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South Carol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d Massachusett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7240" y="2666880"/>
            <a:ext cx="8730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se are the times that try men’s soul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e summer soldier and the sunshine patriot, wil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in crisis, shrink from the service of their country.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-From T. Paine’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The Crisi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TRANSLATE INTO YOUR OWN WORDS.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Times New Roman"/>
              </a:rPr>
              <a:t>PLEASE BE SPECIFIC!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08040" y="2766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371600" y="1413000"/>
            <a:ext cx="6934320" cy="5178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7150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89280" y="3168720"/>
            <a:ext cx="55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is New York and Georgi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2435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259092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7467480" cy="41198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715000" y="2362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4494960" y="36576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89280" y="331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362320"/>
            <a:ext cx="557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re Asia, Africa and South Ame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Property of</cp:lastModifiedBy>
  <dcterms:modified xsi:type="dcterms:W3CDTF">2010-12-20T14:23:47Z</dcterms:modified>
  <cp:revision>89</cp:revision>
  <dc:subject/>
  <dc:title>Jeopardy</dc:title>
</cp:coreProperties>
</file>